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46A0-DC0A-4D8C-9CEC-17B9E83F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799E-0E69-48B8-88E5-166E1805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5AC8-1A9B-427F-B7C4-39ADF1C5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4660-402C-4E2B-BBB4-C88A925E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6267-20C6-4E70-89E7-146445F4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7E66-E12D-4051-96C5-00EDA6AD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BA1-718D-48AF-9EFE-AB2D3078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FF02-F192-485F-A83F-A67DF5B5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FFA7-DC5E-4AC5-93FF-B40A4289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A4A9-E2DE-4D64-9328-EB5D6B6A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364B-EFEA-44BB-9541-29861A16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BEA6-A01A-4A3F-9ACC-F3607279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E5FB-85DB-4700-99B8-A8EF06F5907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3320" y="3656880"/>
            <a:ext cx="542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3333cc"/>
                </a:solidFill>
                <a:latin typeface="Times New Roman"/>
              </a:rPr>
              <a:t>Alexander Medun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3723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 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tains a control string according to 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 it reaches a final configuration after reading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ushdown automaton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 ru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labeled with a uniqu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666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7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37160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 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807732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context-free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recursively enumerable langu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regul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2920" y="2666520"/>
            <a:ext cx="53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9920" y="304704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a turn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with either of its pushdowns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per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493640"/>
            <a:ext cx="80010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Acta Cybernetica, Vol. 2000, No. 4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, p. 653-664, ISSN 0324-721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Fundamenta Informatica, Vol. 2002, No. 16, Amsterdam, NL, p. 399-405, ISSN 0169-29996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9920" y="388548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259128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7142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9040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34440"/>
            <a:ext cx="8153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 generate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2480" y="5256720"/>
            <a:ext cx="3124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5714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827720"/>
            <a:ext cx="3733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99320" y="5409360"/>
            <a:ext cx="3340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Roman Lukáš</cp:lastModifiedBy>
  <dcterms:modified xsi:type="dcterms:W3CDTF">2003-09-17T18:05:46Z</dcterms:modified>
  <cp:revision>97</cp:revision>
  <dc:subject/>
  <dc:title>Bez nadpisu</dc:title>
</cp:coreProperties>
</file>